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2EBC-162F-4994-A58D-4C67DDA54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DBED-2A96-41C1-82EB-BD40533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AFC1E7-DB4A-4848-86D8-E75182B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4BF76-11A4-40EE-9790-7A0BB9C0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5A9225-3C53-4602-8812-03932592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9175E-AF23-4A1E-92C1-BE48D3C0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D64ED-EA06-41EA-BC40-DB2EED2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080385-5EDF-4B25-96DD-FC7356D7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D4AF4-3DAE-4EE9-8A11-655157D1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7B610-4602-4E85-832F-98B16AB3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22DEF0-00E1-4C5E-AB99-81C3914ED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8FF6F-D986-4529-BE0B-29AD2ADCF5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E2F0-83D7-42A4-B8BF-A10BCB0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8476-8E91-42B1-93AC-B385F1E6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B543-8A40-4817-BD64-0464498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8E16-C9C8-4D3E-B430-835D6710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64064-A3DC-4F92-AA39-247FFDC0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06181-D77F-46EF-93AE-F0E472C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AE224-8402-4A04-BDBD-3D7BD1FB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78B0-642C-451E-9A77-74425AF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57EC-80DA-4209-AB0A-4AAB4726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7D43-F33E-420F-A158-1B5A6DE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01C7-865F-47CF-BBEE-695F894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DA78-BD8C-49AC-AA70-88597C4A2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74D0-91BB-4C2E-91AA-1F3DED473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658F5-84A5-45D0-9D63-CFE238DD1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91723-B812-4BAD-BB37-1B127FC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AD51F-87EF-4610-8C73-A7A0C748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E563B-BFE1-4A20-947D-2ABC53C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A80DD1-5B01-4945-8DC0-6BD99F0E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7AD81-0255-4353-A4DF-86E1BB1F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D1532D-34C8-4F15-A14B-C9B0478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BBDE9-CA6B-4325-8283-76BEE1C1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213D7-78CC-4DCA-A653-F8B627CB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740A-74AA-431B-8F2B-1C286008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7F1C8-CF3A-4FB7-88CD-53522BE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F6993-E79F-45D0-894D-829F4C6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086C93-F794-43BF-A8A0-6917F3433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6CA00-82A7-4381-98C6-5C7F21420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69489-99B8-43D1-ABB7-4FDB7B9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0AA6D-C00C-4C0D-B083-16EB282B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74720-3406-4024-84B8-EA1EC480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37D8A-E772-43D4-A87C-3EDD0406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F249A-7B79-408A-9E1F-46E460A5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A468D-C840-45A4-9B52-9B255C9A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EAA6-BEEE-4BD9-BB4F-A156449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2AD38-10D4-4C15-A7DE-E0C520D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B97A1-958D-474E-92B8-3A2E7249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BE83C-65F3-4977-943E-482C224E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A32B6-0238-4E26-8339-F46B580E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E5E88-B048-4911-9D50-1F5D199C7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A650-2434-485C-8BA3-7DCBAD24E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B3B05-35F4-4F0D-A621-FDD4A85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5922C-EA0C-4B65-A556-F928F7C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F02FB-5C50-4B04-A0D9-4FA420DE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889CB-681C-448A-95D5-00AA68E6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523A6-E4BD-4DD7-B34A-CA00E93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5FAEB-4A68-43FF-9AF3-F47BF5DD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9AA0B-87FA-4FD4-ADD8-066BCF5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DBB4B-6A3D-402C-9534-F972E6D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6198C-41FC-4FE7-8259-B48BAA0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A3568-AF41-4F71-934B-725EEDE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25D61-926A-4B5A-AA54-175CA66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DB6BB-708E-47E7-8114-728936F29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ADAFF-B69C-4355-B572-4A01567A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1F02-B92F-4A3C-9F1A-26DA748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5607A-499C-4188-9E9B-59D34BDA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4EECF-2708-4E21-A88E-1C7D57D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AE3A-D485-4A70-862C-F32A59ED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974A7-28E7-4CB6-B315-927C715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36794-7875-4316-8444-D0ED6F7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D855-EE98-4126-ABB3-F4080E2F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E66E7-8CC5-47B1-8630-24E4755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92721-8B04-4FAB-B859-52934F1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4014-AE67-42C8-B7E1-C0787A5A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CB632-AB3B-433A-A94A-29E8533D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83F75-6760-4477-8900-96F0693C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3953F-33BD-4773-AA84-E3FFE42E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EE16-F970-494B-A168-F474A424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11FD-CF4D-4629-8FEC-8135C2AB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796F4-CB43-48D0-8F77-B864C53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8A296-3AEA-4C38-A967-B98F521E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E6D1-AD59-4727-AE4D-A42E83FD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BECB-A899-453C-BBE7-59FC957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2A41-6618-49D6-94C0-3EC1F93D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D159F-A7FC-4828-A8FE-B5659F8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0D7EF-B239-45D2-8ECD-B4F63C8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65DC3-4AE0-4D54-9133-9DD90AD8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1A5E8-06FC-40C6-AE35-D37C0FCA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1356B-3CC1-446D-B8A9-36A2F5D5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F56F2-A04F-4C5B-9FF6-9A9051D5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A98E5-1B3D-431D-BDE2-580ABB0E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60AE7-245A-4BDF-8C9D-F0BF5CEB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0700B-6EE3-484A-B634-7C3462B3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75D2D-ED15-4FC9-A528-1298CBC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4ADF3-5DCD-45DD-AAA9-6E343870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97AA3-F5CF-452E-9551-C1193E63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2787C-4F4F-41C8-8D36-9C58AEB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404DB-8FBF-4ABA-9FF2-5F7CD38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B5B80-F36D-4787-9756-5FD1F7F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0310E-BEDD-421A-A8F2-DFFCBC4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F5286-A257-44C0-B76F-DF93B4D2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99833-3F1F-4A7F-BD0A-B8BBC89A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1A994-A008-483B-96E9-F0F6975D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CAEDD-2FDE-42D8-BD12-961AC13D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8276A-5986-467B-9300-79A670F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246A6-2528-4863-A1CE-44913B8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66E77-7524-45C0-9144-D5E437F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F2421-D2AC-4C48-A881-D26A7C6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F8ECC-0C0A-4555-8F91-BBEDB84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33CFC-6E97-43B8-887A-174E511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3720-2502-44F3-883C-C7B07DA1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3B5EA-3B69-42B3-A1E4-C1044C9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D4268-942D-4DAE-9D02-FE18EBB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32C59-9549-4F49-BD26-BBB6E63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CE8A2-F5CA-4CB8-8EBC-B2B05A68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034B2-53E0-43BF-BCFC-0CF47350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7688F-66CC-41AF-8084-4E2F1E63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47FCE-2BB3-447C-84FD-058E3186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7C56C-FC57-4C06-9646-305EB15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D9495-5DE5-4D7E-8383-5807F8C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ECE4A-59E1-4362-80D7-91A4BE2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AC0BE-2A6F-470F-9695-550CB44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C98A3-8348-4B3F-B046-BB0652A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07ED1-3472-4783-87AF-E31E95C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A6CA8-407C-4042-A542-3DD6048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F47D2-5D81-4F15-92AE-3DA72CF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3B378-6679-4A72-A947-4376BF5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9E7DB-BA44-4283-A86F-A953C92A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61E9E-53BF-4F51-82E8-C973FEC1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C8F70-8646-45F7-B86F-8FEF756A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CD842-D5F3-4CF5-A782-CEBFC715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46CA6-8610-4CEE-828F-B92B042B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8F2D5-33D4-4186-9252-BC07E1DA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599E3-3D05-4531-ACA0-D3BEDC4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2FBF0-DF1F-48BD-A003-55D5D68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891B9-8393-47CF-A17D-3F4BFE7C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20307-C5D2-4872-A31F-47800A64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61A4F-4E11-4ABD-AEEC-196A95B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C3DE2-6510-4388-8A6D-A4991304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0EB49-D621-41ED-9C90-57B0067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515C5-A133-4C30-A59A-6E3D88A2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2A41F-C226-4B1F-AB1A-9750A579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B1C22-B15E-4C72-831F-AE01875A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9633E-7042-45D2-A5A6-26F56F82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65112-6132-46A3-BEB6-334EE8BA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3E9DC-9969-4843-8353-C0725030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2FD30-B947-49AE-8CDC-34F5ABE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20B5A-8B04-4274-8CA9-3DFA6FF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0ADB0-41F1-477A-AED8-9C5DD594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3AF4A-601C-4E02-922B-E2D00C1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E74D0-C670-464F-B98D-44BC8F9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B9835-9F51-498A-9744-F22AE43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CCCAB-5A8D-465D-A527-375026F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99BFD-27B4-42CC-8799-F815B835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2EE68-B4B8-4E0D-91DB-8AE1FE6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8623E-9298-4FCD-A33C-D25768EF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1445F-BE81-49F4-9152-6A3D1DAA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964F1-9129-4F16-8156-E640130D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738AC-25CD-4CA3-8AC2-6A4C2240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162C6-5791-41CB-83AB-B86891B1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13633-1D7F-498C-8EA1-4702946F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901E0-2CD2-4E75-BA80-74E1E34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8072A-9356-42E7-BCB7-F5933B8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42145-61C5-475C-85F2-A9F035A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72BA6-AAD3-49F5-BE37-38E6066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53EAB-FBAA-4840-BFDD-FDF9AE5C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CC4D2-111E-41A6-ACAF-0130DA4A5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5E532-0A8A-4DD2-90E8-64346D1F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37CA7-B876-4659-A187-571D8E2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A106D-384A-426B-A7EC-FA4DC20B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7FAE9-3710-4780-B418-3C34E2B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75C41-070A-4B52-8C4E-CA98ACA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40844-ABCE-4D67-8444-51BB9FF2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FE5C3-A458-4A00-9705-DE507288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ECD73-458A-4B34-A963-3846097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77226-5544-4409-9348-AC00871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1E4ED-0CBA-4546-BF20-ACD5D54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0970F-F030-41E7-810C-ADB8610E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9415F-FFC2-4F98-A7AA-719A4EA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887B9-8B19-4AA0-97D9-CD2F8FDB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FC492-78F3-4121-8821-C4F98E3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4DF7C-CB12-428F-92E9-A629F663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DD2C0-BC62-41B1-9A5D-A22B32BE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AD21A-CD6D-4B67-901F-23D34873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BA318-6865-4181-A169-9E0B12A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97268-F231-46A6-8BC7-A124373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6CD47-A364-4AC0-86DA-A93FB9B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C8937-E742-433F-874E-35AF923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32960-53A0-4153-B44C-E0FFD446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9E314-4EA4-4688-9F68-13E2F56C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B933E5-C547-4132-8903-F2F86F6F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554C3-42A1-4C44-8DDC-B9C3886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D1994-3BD7-4018-9281-B69248F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F5164-1C07-4774-A098-1218E36A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58B38-16CC-43BF-99C1-8C54B29F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87EF6-FAB4-4EE1-9E3D-5C27A7BA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1932F-3804-487E-803E-E1126F72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70057-329A-411C-86D4-3E14306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A9381-C544-4D5D-9035-5CF7BA5F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8863E-8C91-40E9-A627-1ABF30E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21629-7CB1-4BAD-A501-E522D3F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CCC87-50EC-4B7A-A58F-C407854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0A68A-293E-4CC7-B2B1-09447046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A068B-9E3E-42D3-9D7C-D1C2D5F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991F5-5AF6-4DBF-A593-775F778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693DD-FD74-4BFB-80CB-340444F9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DF6ED-3509-445A-ACA4-D2928B6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41134-63BC-4C58-92F5-B0E15043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F8730-7912-4652-B3F8-4C587642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F15DD-D3A0-430C-87EA-0B14C5FB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502B-8FA1-473F-B78A-7858232F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8FE6A-7E33-4E21-A240-378E4B5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45275-E2AF-4800-8A94-670F2414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B3052-1AC9-4DC3-9560-F1DBA5B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8BA72-552C-4832-B147-3C3AEB4F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34771-E3E1-468A-AD4A-ADC05EF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59578-AB91-4AEB-820F-0A5E6A0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C7DC9-C5DA-41AA-8C95-C08A1ADC3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97F1-A903-4441-A7F2-03FBA6F708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EC2C-E0D5-4536-A3B0-DC8DC366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DB17-D4D0-4CBD-852C-49AEE71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002A-6CC2-46F1-8A28-EB72E66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5A0D-B5FC-4EE7-94C4-6AE1F7A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7C9E-8C56-431F-950C-8AFD4A0A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55D8-F1CB-4BC3-834C-D1D1787A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A91B-9D35-4200-B761-5ED3ECEC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0BC0-3833-419A-9E34-9FB6DAB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8490-3C03-41E8-B2DC-0D84F59A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C685-3980-4E2C-B473-3FC97C58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6EC6-DEDE-4864-8FC2-7B43493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A50C-2DB7-4E28-8061-2BA6045D0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AE033-B8C8-4184-9972-2A4CC8891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512A-C85B-4454-98A0-1C4443B6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081B1-EE3B-47D4-BA89-21E92D2F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7878B-909F-4A15-BB2D-A04A69FA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294AE-6715-4BFB-B5A3-8C051C1E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5DF9B-12DA-4330-BB70-6C262CBB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4983F-7A2A-435D-9D46-C12B923B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B2C31-7EBE-4A05-9DD6-E7C4E6C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ACF6A-FBF3-447A-88FF-5FC815D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4573B-7C05-4275-AF4E-73886972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485A6-704C-43D5-82EA-99ACA695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61835-6679-4620-BB2B-488DB8C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CBE2-EB7A-4463-8188-61BA39D3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0F935-649F-4506-AEF4-3AB5F2088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D44AF-34A7-48A4-B676-23F556EE8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DD04E-7023-4737-BDC5-33D8C57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8103E-B1B7-4933-9E6A-3EA6706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B7939-75BB-4C7D-9C32-A46DB3E4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AB042-A1AE-48FD-B478-5296E30B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33FC2-12ED-4B91-B1FD-37FB3CF4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21196A-9145-44C8-8A89-4E79F8F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4AF5F-CB1D-4534-908B-58F1AA29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6A867-5934-4E31-8250-10AEF92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C812-1EE3-4725-93DA-6F5F5FA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51576A-7701-429E-B620-1F5C85C4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7F01B-57B5-4C11-B47D-9C8C1060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A536F-510A-43D6-876C-7CB336140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DB7D-3809-422B-BC95-34BA49E972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EED7-20C1-4BF3-A6D3-4A36CF9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E9E41-61AA-4932-B340-D27F03B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FF22-0E5A-4BCA-9B3F-7DE17DE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79CE-3BE1-4646-A058-062D9AD0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007D-846C-4EE2-B7C6-B9842ECB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A5543-9ED7-414D-9FAE-E261CFC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BC7A-AEA3-4129-AF73-76DA291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B0B9-8332-4ECA-929A-6379283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D66C-44B7-4257-AA57-EFD3C647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070F-49FC-4C1B-BB33-80A63AE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C7EA-642F-4154-9CCB-D170A56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AC8E-A3D8-4558-AB76-16A842FF80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4B270-92DD-40D1-BE5B-931785088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45D69-38D1-4809-8F1A-0FE3F7C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230F6-3776-424B-9130-BD9E378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A6716-A462-466D-BC33-BDA236BC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239D9-F187-4877-906B-9808FD6B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F860-6050-4069-82FA-88EBA55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3FE71-213C-4DD2-963C-C3705331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D498C-C7A7-46C8-8CFB-3784371D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9AA26-8C99-4BE8-BF51-3A97FD69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759A4-EFDB-444E-9B43-7B6B9FE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16949-9C35-4212-8364-F0A2DBE9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0BBA6-4170-41F9-A71A-2DE4C2C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DE72F-3EA7-4775-AF7F-3A2B7DDC2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F9FF2A-83B6-418E-A4B0-A78C92A9B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AF74A-B1B1-4F43-86B6-C893E496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C2AD9-3261-4CAB-8DA9-C7A19B0E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AF6-9E8D-4D24-947C-737DCA6772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8B1-001E-4F9D-9428-E41D3F33DB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93FC-3057-4E02-B5E4-655E90725F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A43-1EAB-4853-B491-2CE952DCB9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43F-2663-4424-962F-84F0C7A3A0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5018-F64C-4C0E-8736-B6F2D5AFAD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692-0629-4C69-BC3A-0E5EBF1FC0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18A0-C75E-4768-A5AF-13DFDF3EEA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2BB-0824-4B3C-BEF2-9B5830E7C3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EE96-4CD5-4521-9BF8-F30942ED2F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35A-E4C4-4AAA-B176-56802133AF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BC1-8FD0-4A3B-BD4C-05BAA24FB6E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75FC-B915-4C6A-9196-D3FB6EE82C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E42B-AA33-4BF5-9A12-A7B7AE0EDF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B42-8907-4AB7-819D-3E822146CE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1BC3-07E0-4363-8C86-81AD5853B5B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081-3678-47A9-8A42-2BF8F86F05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66C-A158-46E9-88DF-25AA890CC7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C056-1A63-471A-8E0A-C22F7CA38D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D06-D392-4B29-8302-262B51D11D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64E-8A33-4E75-A808-3CEC98ED6A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5E42-385C-4E36-B427-7DBC365031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7090-2FA4-4684-9E76-796CB722AB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3212-022A-4493-8FF0-CF84497735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20880" y="272736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直 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57240"/>
            <a:ext cx="5180040" cy="525240"/>
            <a:chOff x="0" y="57240"/>
            <a:chExt cx="5180040" cy="525240"/>
          </a:xfrm>
        </p:grpSpPr>
        <p:pic>
          <p:nvPicPr>
            <p:cNvPr id="999" name="圆角矩形 7" descr=""/>
            <p:cNvPicPr/>
            <p:nvPr/>
          </p:nvPicPr>
          <p:blipFill>
            <a:blip r:embed="rId1"/>
            <a:stretch/>
          </p:blipFill>
          <p:spPr>
            <a:xfrm>
              <a:off x="257400" y="57240"/>
              <a:ext cx="492264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51920"/>
              <a:ext cx="692640" cy="273600"/>
              <a:chOff x="0" y="151920"/>
              <a:chExt cx="692640" cy="273600"/>
            </a:xfrm>
          </p:grpSpPr>
          <p:sp>
            <p:nvSpPr>
              <p:cNvPr id="1001" name="椭圆 9"/>
              <p:cNvSpPr/>
              <p:nvPr/>
            </p:nvSpPr>
            <p:spPr>
              <a:xfrm rot="16200000">
                <a:off x="280800" y="304560"/>
                <a:ext cx="10584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37240"/>
                <a:ext cx="240480" cy="7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80800" y="168840"/>
                <a:ext cx="10584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52160" y="161640"/>
                <a:ext cx="240480" cy="7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04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2896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7064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51920"/>
                <a:ext cx="614520" cy="66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国旗.jpg"/>
          <p:cNvPicPr/>
          <p:nvPr/>
        </p:nvPicPr>
        <p:blipFill>
          <a:blip r:embed="rId8"/>
          <a:srcRect l="16390" t="22943" r="14785" b="24616"/>
          <a:stretch/>
        </p:blipFill>
        <p:spPr>
          <a:xfrm>
            <a:off x="1000080" y="142884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3" descr="D:\我的文档-桌面-收藏夹\桌面\一起.jpg"/>
          <p:cNvPicPr/>
          <p:nvPr/>
        </p:nvPicPr>
        <p:blipFill>
          <a:blip r:embed="rId9"/>
          <a:srcRect l="21812" t="0" r="18229" b="7072"/>
          <a:stretch/>
        </p:blipFill>
        <p:spPr>
          <a:xfrm>
            <a:off x="3500280" y="927000"/>
            <a:ext cx="1571760" cy="20005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4" descr="D:\我的文档-桌面-收藏夹\桌面\双杠.jpg"/>
          <p:cNvPicPr/>
          <p:nvPr/>
        </p:nvPicPr>
        <p:blipFill>
          <a:blip r:embed="rId10"/>
          <a:stretch/>
        </p:blipFill>
        <p:spPr>
          <a:xfrm>
            <a:off x="6072120" y="998640"/>
            <a:ext cx="19288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012" name="组合 4"/>
          <p:cNvGrpSpPr/>
          <p:nvPr/>
        </p:nvGrpSpPr>
        <p:grpSpPr>
          <a:xfrm>
            <a:off x="1049400" y="1754280"/>
            <a:ext cx="928800" cy="716040"/>
            <a:chOff x="1049400" y="1754280"/>
            <a:chExt cx="928800" cy="716040"/>
          </a:xfrm>
        </p:grpSpPr>
        <p:sp>
          <p:nvSpPr>
            <p:cNvPr id="1013" name="直接连接符 8"/>
            <p:cNvSpPr/>
            <p:nvPr/>
          </p:nvSpPr>
          <p:spPr>
            <a:xfrm>
              <a:off x="1071000" y="1754280"/>
              <a:ext cx="0" cy="71352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直接连接符 11"/>
            <p:cNvSpPr/>
            <p:nvPr/>
          </p:nvSpPr>
          <p:spPr>
            <a:xfrm>
              <a:off x="1049400" y="2470320"/>
              <a:ext cx="928800" cy="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直接连接符 16"/>
          <p:cNvSpPr/>
          <p:nvPr/>
        </p:nvSpPr>
        <p:spPr>
          <a:xfrm>
            <a:off x="3786120" y="185580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7"/>
          <p:cNvSpPr/>
          <p:nvPr/>
        </p:nvSpPr>
        <p:spPr>
          <a:xfrm>
            <a:off x="3786120" y="1855800"/>
            <a:ext cx="7146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9"/>
          <p:cNvSpPr/>
          <p:nvPr/>
        </p:nvSpPr>
        <p:spPr>
          <a:xfrm>
            <a:off x="6715080" y="1498680"/>
            <a:ext cx="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20"/>
          <p:cNvSpPr/>
          <p:nvPr/>
        </p:nvSpPr>
        <p:spPr>
          <a:xfrm flipV="1">
            <a:off x="6715080" y="1284120"/>
            <a:ext cx="714600" cy="21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2"/>
          <p:cNvSpPr/>
          <p:nvPr/>
        </p:nvSpPr>
        <p:spPr>
          <a:xfrm>
            <a:off x="785880" y="3378240"/>
            <a:ext cx="33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上面这些角都是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21"/>
          <p:cNvGrpSpPr/>
          <p:nvPr/>
        </p:nvGrpSpPr>
        <p:grpSpPr>
          <a:xfrm>
            <a:off x="1428840" y="4070520"/>
            <a:ext cx="714240" cy="785520"/>
            <a:chOff x="1428840" y="4070520"/>
            <a:chExt cx="714240" cy="785520"/>
          </a:xfrm>
        </p:grpSpPr>
        <p:sp>
          <p:nvSpPr>
            <p:cNvPr id="1021" name="直接连接符 23"/>
            <p:cNvSpPr/>
            <p:nvPr/>
          </p:nvSpPr>
          <p:spPr>
            <a:xfrm>
              <a:off x="1428840" y="4070520"/>
              <a:ext cx="0" cy="78552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24"/>
            <p:cNvSpPr/>
            <p:nvPr/>
          </p:nvSpPr>
          <p:spPr>
            <a:xfrm>
              <a:off x="1428840" y="4856040"/>
              <a:ext cx="714240" cy="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28"/>
            <p:cNvSpPr/>
            <p:nvPr/>
          </p:nvSpPr>
          <p:spPr>
            <a:xfrm>
              <a:off x="1428840" y="4641840"/>
              <a:ext cx="214200" cy="214200"/>
            </a:xfrm>
            <a:prstGeom prst="rect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组合 7"/>
          <p:cNvGrpSpPr/>
          <p:nvPr/>
        </p:nvGrpSpPr>
        <p:grpSpPr>
          <a:xfrm>
            <a:off x="3679560" y="3927600"/>
            <a:ext cx="3321360" cy="1071360"/>
            <a:chOff x="3679560" y="3927600"/>
            <a:chExt cx="3321360" cy="1071360"/>
          </a:xfrm>
        </p:grpSpPr>
        <p:sp>
          <p:nvSpPr>
            <p:cNvPr id="1025" name="AutoShape 27"/>
            <p:cNvSpPr/>
            <p:nvPr/>
          </p:nvSpPr>
          <p:spPr>
            <a:xfrm>
              <a:off x="4714920" y="3927600"/>
              <a:ext cx="2286000" cy="1000080"/>
            </a:xfrm>
            <a:prstGeom prst="wedgeRoundRectCallout">
              <a:avLst>
                <a:gd name="adj1" fmla="val -63476"/>
                <a:gd name="adj2" fmla="val 28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每个三角尺上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都有一个直角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2" descr="E:\2017秋上·黄倩\其他\人\蜜蜂.gif蜜蜂"/>
            <p:cNvPicPr/>
            <p:nvPr/>
          </p:nvPicPr>
          <p:blipFill>
            <a:blip r:embed="rId11"/>
            <a:stretch/>
          </p:blipFill>
          <p:spPr>
            <a:xfrm flipH="1">
              <a:off x="3679560" y="4222800"/>
              <a:ext cx="70380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TextBox 36"/>
          <p:cNvSpPr/>
          <p:nvPr/>
        </p:nvSpPr>
        <p:spPr>
          <a:xfrm>
            <a:off x="428760" y="5451480"/>
            <a:ext cx="84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要知道一个角是不是直角，可以用三角尺上的直角比一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1"/>
          <p:cNvSpPr/>
          <p:nvPr/>
        </p:nvSpPr>
        <p:spPr>
          <a:xfrm>
            <a:off x="717480" y="71280"/>
            <a:ext cx="557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合作探究，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八边形 5"/>
          <p:cNvSpPr/>
          <p:nvPr/>
        </p:nvSpPr>
        <p:spPr>
          <a:xfrm>
            <a:off x="38592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"/>
          <p:cNvSpPr/>
          <p:nvPr/>
        </p:nvSpPr>
        <p:spPr>
          <a:xfrm>
            <a:off x="2392560" y="157176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你会用纸折一个直角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任意多边形 2"/>
          <p:cNvSpPr/>
          <p:nvPr/>
        </p:nvSpPr>
        <p:spPr>
          <a:xfrm>
            <a:off x="1214280" y="2500200"/>
            <a:ext cx="1428840" cy="1352520"/>
          </a:xfrm>
          <a:custGeom>
            <a:avLst/>
            <a:gdLst/>
            <a:ahLst/>
            <a:rect l="l" t="t" r="r" b="b"/>
            <a:pathLst>
              <a:path w="1354111" h="1646420">
                <a:moveTo>
                  <a:pt x="576978" y="134912"/>
                </a:moveTo>
                <a:cubicBezTo>
                  <a:pt x="796833" y="0"/>
                  <a:pt x="924011" y="89942"/>
                  <a:pt x="1021054" y="134912"/>
                </a:cubicBezTo>
                <a:cubicBezTo>
                  <a:pt x="1118097" y="179882"/>
                  <a:pt x="1106228" y="289810"/>
                  <a:pt x="1159239" y="404734"/>
                </a:cubicBezTo>
                <a:cubicBezTo>
                  <a:pt x="1212250" y="519658"/>
                  <a:pt x="1354111" y="677056"/>
                  <a:pt x="1339121" y="824459"/>
                </a:cubicBezTo>
                <a:cubicBezTo>
                  <a:pt x="1324131" y="971862"/>
                  <a:pt x="1174229" y="1159239"/>
                  <a:pt x="1069298" y="1289154"/>
                </a:cubicBezTo>
                <a:cubicBezTo>
                  <a:pt x="964367" y="1419069"/>
                  <a:pt x="834452" y="1561476"/>
                  <a:pt x="709534" y="1603948"/>
                </a:cubicBezTo>
                <a:cubicBezTo>
                  <a:pt x="584616" y="1646420"/>
                  <a:pt x="427220" y="1626433"/>
                  <a:pt x="319790" y="1543987"/>
                </a:cubicBezTo>
                <a:cubicBezTo>
                  <a:pt x="212360" y="1461541"/>
                  <a:pt x="112426" y="1264170"/>
                  <a:pt x="64957" y="1109272"/>
                </a:cubicBezTo>
                <a:cubicBezTo>
                  <a:pt x="17488" y="954374"/>
                  <a:pt x="0" y="754505"/>
                  <a:pt x="34977" y="614597"/>
                </a:cubicBezTo>
                <a:cubicBezTo>
                  <a:pt x="69954" y="474689"/>
                  <a:pt x="182381" y="349770"/>
                  <a:pt x="274820" y="269823"/>
                </a:cubicBezTo>
                <a:cubicBezTo>
                  <a:pt x="367259" y="189876"/>
                  <a:pt x="589613" y="134912"/>
                  <a:pt x="589613" y="134912"/>
                </a:cubicBezTo>
                <a:lnTo>
                  <a:pt x="589613" y="134912"/>
                </a:ln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右箭头 3"/>
          <p:cNvSpPr/>
          <p:nvPr/>
        </p:nvSpPr>
        <p:spPr>
          <a:xfrm>
            <a:off x="2786040" y="3000240"/>
            <a:ext cx="100008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饼形 5"/>
          <p:cNvSpPr/>
          <p:nvPr/>
        </p:nvSpPr>
        <p:spPr>
          <a:xfrm flipV="1">
            <a:off x="3929040" y="2643120"/>
            <a:ext cx="1714680" cy="1928880"/>
          </a:xfrm>
          <a:custGeom>
            <a:avLst/>
            <a:gdLst/>
            <a:ahLst/>
            <a:rect l="l" t="t" r="r" b="b"/>
            <a:pathLst>
              <a:path w="1714500" h="1928812">
                <a:moveTo>
                  <a:pt x="1714500" y="964406"/>
                </a:moveTo>
                <a:cubicBezTo>
                  <a:pt x="1714500" y="1497033"/>
                  <a:pt x="1330696" y="1928812"/>
                  <a:pt x="857250" y="1928812"/>
                </a:cubicBezTo>
                <a:cubicBezTo>
                  <a:pt x="383804" y="1928812"/>
                  <a:pt x="0" y="1497033"/>
                  <a:pt x="0" y="964406"/>
                </a:cubicBezTo>
                <a:cubicBezTo>
                  <a:pt x="0" y="959045"/>
                  <a:pt x="39" y="953694"/>
                  <a:pt x="115" y="948433"/>
                </a:cubicBezTo>
                <a:lnTo>
                  <a:pt x="857250" y="9644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任意多边形 6"/>
          <p:cNvSpPr/>
          <p:nvPr/>
        </p:nvSpPr>
        <p:spPr>
          <a:xfrm>
            <a:off x="3786120" y="2643120"/>
            <a:ext cx="2000160" cy="1052640"/>
          </a:xfrm>
          <a:custGeom>
            <a:avLst/>
            <a:gdLst/>
            <a:ahLst/>
            <a:rect l="l" t="t" r="r" b="b"/>
            <a:pathLst>
              <a:path w="2148588" h="1110613">
                <a:moveTo>
                  <a:pt x="192372" y="1016897"/>
                </a:moveTo>
                <a:cubicBezTo>
                  <a:pt x="0" y="923181"/>
                  <a:pt x="582128" y="592012"/>
                  <a:pt x="717039" y="424622"/>
                </a:cubicBezTo>
                <a:cubicBezTo>
                  <a:pt x="851951" y="257232"/>
                  <a:pt x="876267" y="0"/>
                  <a:pt x="1001841" y="12556"/>
                </a:cubicBezTo>
                <a:cubicBezTo>
                  <a:pt x="1127416" y="25113"/>
                  <a:pt x="1328080" y="372545"/>
                  <a:pt x="1470486" y="499961"/>
                </a:cubicBezTo>
                <a:cubicBezTo>
                  <a:pt x="1612892" y="627377"/>
                  <a:pt x="1789483" y="695896"/>
                  <a:pt x="1856280" y="777055"/>
                </a:cubicBezTo>
                <a:cubicBezTo>
                  <a:pt x="1923077" y="858214"/>
                  <a:pt x="2148588" y="949442"/>
                  <a:pt x="1871270" y="986917"/>
                </a:cubicBezTo>
                <a:cubicBezTo>
                  <a:pt x="1593952" y="1024392"/>
                  <a:pt x="384744" y="1110613"/>
                  <a:pt x="192372" y="1016897"/>
                </a:cubicBezTo>
                <a:close/>
              </a:path>
            </a:pathLst>
          </a:custGeom>
          <a:solidFill>
            <a:srgbClr val="999999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0"/>
          <p:cNvSpPr/>
          <p:nvPr/>
        </p:nvSpPr>
        <p:spPr>
          <a:xfrm flipH="1" flipV="1">
            <a:off x="4714920" y="2643120"/>
            <a:ext cx="71280" cy="1000080"/>
          </a:xfrm>
          <a:prstGeom prst="line">
            <a:avLst/>
          </a:prstGeom>
          <a:ln w="255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饼形 13"/>
          <p:cNvSpPr/>
          <p:nvPr/>
        </p:nvSpPr>
        <p:spPr>
          <a:xfrm flipV="1">
            <a:off x="6929280" y="2643120"/>
            <a:ext cx="1714680" cy="1928880"/>
          </a:xfrm>
          <a:custGeom>
            <a:avLst/>
            <a:gdLst/>
            <a:ahLst/>
            <a:rect l="l" t="t" r="r" b="b"/>
            <a:pathLst>
              <a:path w="1714500" h="1928812">
                <a:moveTo>
                  <a:pt x="823011" y="1928042"/>
                </a:moveTo>
                <a:cubicBezTo>
                  <a:pt x="365351" y="1907738"/>
                  <a:pt x="0" y="1484071"/>
                  <a:pt x="0" y="964406"/>
                </a:cubicBezTo>
                <a:cubicBezTo>
                  <a:pt x="0" y="959045"/>
                  <a:pt x="39" y="953694"/>
                  <a:pt x="115" y="948433"/>
                </a:cubicBezTo>
                <a:lnTo>
                  <a:pt x="857250" y="9644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右箭头 14"/>
          <p:cNvSpPr/>
          <p:nvPr/>
        </p:nvSpPr>
        <p:spPr>
          <a:xfrm>
            <a:off x="5786280" y="3000240"/>
            <a:ext cx="100044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任意多边形 18"/>
          <p:cNvSpPr/>
          <p:nvPr/>
        </p:nvSpPr>
        <p:spPr>
          <a:xfrm>
            <a:off x="6875640" y="2571840"/>
            <a:ext cx="996840" cy="1093680"/>
          </a:xfrm>
          <a:custGeom>
            <a:avLst/>
            <a:gdLst/>
            <a:ahLst/>
            <a:rect l="l" t="t" r="r" b="b"/>
            <a:pathLst>
              <a:path w="1021297" h="1176728">
                <a:moveTo>
                  <a:pt x="846944" y="102433"/>
                </a:moveTo>
                <a:cubicBezTo>
                  <a:pt x="781986" y="0"/>
                  <a:pt x="549639" y="342275"/>
                  <a:pt x="487180" y="447206"/>
                </a:cubicBezTo>
                <a:cubicBezTo>
                  <a:pt x="424721" y="552137"/>
                  <a:pt x="542144" y="619593"/>
                  <a:pt x="472190" y="732019"/>
                </a:cubicBezTo>
                <a:cubicBezTo>
                  <a:pt x="402236" y="844445"/>
                  <a:pt x="0" y="1066800"/>
                  <a:pt x="67456" y="1121764"/>
                </a:cubicBezTo>
                <a:cubicBezTo>
                  <a:pt x="134912" y="1176728"/>
                  <a:pt x="732553" y="1146331"/>
                  <a:pt x="876925" y="1061803"/>
                </a:cubicBezTo>
                <a:cubicBezTo>
                  <a:pt x="1021297" y="977275"/>
                  <a:pt x="938687" y="774491"/>
                  <a:pt x="933690" y="614596"/>
                </a:cubicBezTo>
                <a:cubicBezTo>
                  <a:pt x="928693" y="454701"/>
                  <a:pt x="923078" y="131046"/>
                  <a:pt x="846944" y="102433"/>
                </a:cubicBezTo>
                <a:close/>
              </a:path>
            </a:pathLst>
          </a:custGeom>
          <a:solidFill>
            <a:srgbClr val="999999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矩形 1"/>
          <p:cNvSpPr/>
          <p:nvPr/>
        </p:nvSpPr>
        <p:spPr>
          <a:xfrm>
            <a:off x="1978560" y="757080"/>
            <a:ext cx="74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三角尺可以画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3"/>
          <p:cNvSpPr/>
          <p:nvPr/>
        </p:nvSpPr>
        <p:spPr>
          <a:xfrm>
            <a:off x="973080" y="196704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35"/>
          <p:cNvGrpSpPr/>
          <p:nvPr/>
        </p:nvGrpSpPr>
        <p:grpSpPr>
          <a:xfrm>
            <a:off x="6340320" y="1283760"/>
            <a:ext cx="1284480" cy="1072080"/>
            <a:chOff x="6340320" y="1283760"/>
            <a:chExt cx="1284480" cy="1072080"/>
          </a:xfrm>
        </p:grpSpPr>
        <p:sp>
          <p:nvSpPr>
            <p:cNvPr id="1042" name="矩形 18"/>
            <p:cNvSpPr/>
            <p:nvPr/>
          </p:nvSpPr>
          <p:spPr>
            <a:xfrm>
              <a:off x="6340320" y="2141280"/>
              <a:ext cx="14256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8"/>
            <p:cNvSpPr/>
            <p:nvPr/>
          </p:nvSpPr>
          <p:spPr>
            <a:xfrm>
              <a:off x="6340320" y="2355840"/>
              <a:ext cx="128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9"/>
            <p:cNvSpPr/>
            <p:nvPr/>
          </p:nvSpPr>
          <p:spPr>
            <a:xfrm flipV="1">
              <a:off x="6340320" y="1283760"/>
              <a:ext cx="0" cy="107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1"/>
            <p:cNvSpPr/>
            <p:nvPr/>
          </p:nvSpPr>
          <p:spPr>
            <a:xfrm>
              <a:off x="6340320" y="2284200"/>
              <a:ext cx="7164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右箭头 12"/>
          <p:cNvSpPr/>
          <p:nvPr/>
        </p:nvSpPr>
        <p:spPr>
          <a:xfrm>
            <a:off x="2644920" y="1787400"/>
            <a:ext cx="78552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右箭头 13"/>
          <p:cNvSpPr/>
          <p:nvPr/>
        </p:nvSpPr>
        <p:spPr>
          <a:xfrm>
            <a:off x="5160960" y="1787400"/>
            <a:ext cx="785880" cy="3574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32"/>
          <p:cNvGrpSpPr/>
          <p:nvPr/>
        </p:nvGrpSpPr>
        <p:grpSpPr>
          <a:xfrm>
            <a:off x="3714840" y="1285560"/>
            <a:ext cx="1285920" cy="1070280"/>
            <a:chOff x="3714840" y="1285560"/>
            <a:chExt cx="1285920" cy="1070280"/>
          </a:xfrm>
        </p:grpSpPr>
        <p:sp>
          <p:nvSpPr>
            <p:cNvPr id="1049" name="直角三角形 14"/>
            <p:cNvSpPr/>
            <p:nvPr/>
          </p:nvSpPr>
          <p:spPr>
            <a:xfrm>
              <a:off x="3715920" y="1287000"/>
              <a:ext cx="713520" cy="1068840"/>
            </a:xfrm>
            <a:prstGeom prst="rtTriangle">
              <a:avLst/>
            </a:prstGeom>
            <a:solidFill>
              <a:srgbClr val="ccccff"/>
            </a:solidFill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直接连接符 5"/>
            <p:cNvSpPr/>
            <p:nvPr/>
          </p:nvSpPr>
          <p:spPr>
            <a:xfrm>
              <a:off x="3715920" y="2355840"/>
              <a:ext cx="128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直接连接符 6"/>
            <p:cNvSpPr/>
            <p:nvPr/>
          </p:nvSpPr>
          <p:spPr>
            <a:xfrm flipV="1">
              <a:off x="3714840" y="1285560"/>
              <a:ext cx="0" cy="106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10"/>
            <p:cNvSpPr/>
            <p:nvPr/>
          </p:nvSpPr>
          <p:spPr>
            <a:xfrm>
              <a:off x="3715920" y="2284920"/>
              <a:ext cx="71640" cy="70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16"/>
            <p:cNvSpPr/>
            <p:nvPr/>
          </p:nvSpPr>
          <p:spPr>
            <a:xfrm>
              <a:off x="3787560" y="1928160"/>
              <a:ext cx="285480" cy="285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矩形 21"/>
          <p:cNvSpPr/>
          <p:nvPr/>
        </p:nvSpPr>
        <p:spPr>
          <a:xfrm>
            <a:off x="500040" y="3009960"/>
            <a:ext cx="77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三角尺比一比教科书封面上的角是不是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22"/>
          <p:cNvSpPr/>
          <p:nvPr/>
        </p:nvSpPr>
        <p:spPr>
          <a:xfrm>
            <a:off x="500040" y="4191120"/>
            <a:ext cx="77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数一数下面的图形中各有几个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23"/>
          <p:cNvSpPr/>
          <p:nvPr/>
        </p:nvSpPr>
        <p:spPr>
          <a:xfrm>
            <a:off x="2960640" y="36399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Calibri"/>
                <a:ea typeface="宋体"/>
              </a:rPr>
              <a:t>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25"/>
          <p:cNvSpPr/>
          <p:nvPr/>
        </p:nvSpPr>
        <p:spPr>
          <a:xfrm>
            <a:off x="1214280" y="4873680"/>
            <a:ext cx="1143000" cy="85716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26"/>
          <p:cNvSpPr/>
          <p:nvPr/>
        </p:nvSpPr>
        <p:spPr>
          <a:xfrm>
            <a:off x="3071880" y="4873680"/>
            <a:ext cx="785880" cy="85716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角三角形 28"/>
          <p:cNvSpPr/>
          <p:nvPr/>
        </p:nvSpPr>
        <p:spPr>
          <a:xfrm>
            <a:off x="4430880" y="4873680"/>
            <a:ext cx="1071360" cy="857160"/>
          </a:xfrm>
          <a:prstGeom prst="rtTriangle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29"/>
          <p:cNvSpPr/>
          <p:nvPr/>
        </p:nvSpPr>
        <p:spPr>
          <a:xfrm>
            <a:off x="146376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30"/>
          <p:cNvSpPr/>
          <p:nvPr/>
        </p:nvSpPr>
        <p:spPr>
          <a:xfrm>
            <a:off x="321480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31"/>
          <p:cNvSpPr/>
          <p:nvPr/>
        </p:nvSpPr>
        <p:spPr>
          <a:xfrm>
            <a:off x="4645080" y="579420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八边形 37"/>
          <p:cNvSpPr/>
          <p:nvPr/>
        </p:nvSpPr>
        <p:spPr>
          <a:xfrm>
            <a:off x="314280" y="7081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5720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找出直角，在下面的括号里画上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组合 2"/>
          <p:cNvGrpSpPr/>
          <p:nvPr/>
        </p:nvGrpSpPr>
        <p:grpSpPr>
          <a:xfrm>
            <a:off x="-9360" y="79200"/>
            <a:ext cx="3054240" cy="527400"/>
            <a:chOff x="-9360" y="79200"/>
            <a:chExt cx="3054240" cy="527400"/>
          </a:xfrm>
        </p:grpSpPr>
        <p:pic>
          <p:nvPicPr>
            <p:cNvPr id="1066" name="圆角矩形 8" descr=""/>
            <p:cNvPicPr/>
            <p:nvPr/>
          </p:nvPicPr>
          <p:blipFill>
            <a:blip r:embed="rId1"/>
            <a:stretch/>
          </p:blipFill>
          <p:spPr>
            <a:xfrm>
              <a:off x="130680" y="79200"/>
              <a:ext cx="291420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7" name="组合 4"/>
            <p:cNvGrpSpPr/>
            <p:nvPr/>
          </p:nvGrpSpPr>
          <p:grpSpPr>
            <a:xfrm>
              <a:off x="-9360" y="174240"/>
              <a:ext cx="404280" cy="274680"/>
              <a:chOff x="-9360" y="174240"/>
              <a:chExt cx="404280" cy="274680"/>
            </a:xfrm>
          </p:grpSpPr>
          <p:sp>
            <p:nvSpPr>
              <p:cNvPr id="1068" name="椭圆 16"/>
              <p:cNvSpPr/>
              <p:nvPr/>
            </p:nvSpPr>
            <p:spPr>
              <a:xfrm rot="16200000">
                <a:off x="228600" y="34092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200" y="308880"/>
                <a:ext cx="207720" cy="11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椭圆 19"/>
              <p:cNvSpPr/>
              <p:nvPr/>
            </p:nvSpPr>
            <p:spPr>
              <a:xfrm rot="16200000">
                <a:off x="228600" y="214920"/>
                <a:ext cx="98280" cy="117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椭圆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200" y="189720"/>
                <a:ext cx="207720" cy="11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-9360" y="32616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-9360" y="29628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-9360" y="20412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-9360" y="174240"/>
                <a:ext cx="331920" cy="10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6" name="Group 16149"/>
          <p:cNvGrpSpPr/>
          <p:nvPr/>
        </p:nvGrpSpPr>
        <p:grpSpPr>
          <a:xfrm>
            <a:off x="1684440" y="1832040"/>
            <a:ext cx="5286240" cy="3098880"/>
            <a:chOff x="1684440" y="1832040"/>
            <a:chExt cx="5286240" cy="3098880"/>
          </a:xfrm>
        </p:grpSpPr>
        <p:sp>
          <p:nvSpPr>
            <p:cNvPr id="1077" name="Picture 16150"/>
            <p:cNvSpPr/>
            <p:nvPr/>
          </p:nvSpPr>
          <p:spPr>
            <a:xfrm>
              <a:off x="1684440" y="1832040"/>
              <a:ext cx="5286240" cy="30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5137560" y="2107440"/>
              <a:ext cx="764280" cy="551520"/>
            </a:xfrm>
            <a:custGeom>
              <a:avLst/>
              <a:gdLst/>
              <a:ahLst/>
              <a:rect l="l" t="t" r="r" b="b"/>
              <a:pathLst>
                <a:path w="896" h="655">
                  <a:moveTo>
                    <a:pt x="896" y="655"/>
                  </a:moveTo>
                  <a:lnTo>
                    <a:pt x="896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3387960" y="2040120"/>
              <a:ext cx="1058760" cy="684000"/>
            </a:xfrm>
            <a:custGeom>
              <a:avLst/>
              <a:gdLst/>
              <a:ahLst/>
              <a:rect l="l" t="t" r="r" b="b"/>
              <a:pathLst>
                <a:path w="1241" h="812">
                  <a:moveTo>
                    <a:pt x="1241" y="684"/>
                  </a:moveTo>
                  <a:lnTo>
                    <a:pt x="748" y="0"/>
                  </a:lnTo>
                  <a:lnTo>
                    <a:pt x="0" y="8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6153"/>
            <p:cNvSpPr/>
            <p:nvPr/>
          </p:nvSpPr>
          <p:spPr>
            <a:xfrm flipH="1">
              <a:off x="1719000" y="2696760"/>
              <a:ext cx="9504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6154"/>
            <p:cNvSpPr/>
            <p:nvPr/>
          </p:nvSpPr>
          <p:spPr>
            <a:xfrm flipH="1" flipV="1">
              <a:off x="2098440" y="1865520"/>
              <a:ext cx="570600" cy="830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1785960" y="3900960"/>
              <a:ext cx="1073160" cy="375120"/>
            </a:xfrm>
            <a:custGeom>
              <a:avLst/>
              <a:gdLst/>
              <a:ahLst/>
              <a:rect l="l" t="t" r="r" b="b"/>
              <a:pathLst>
                <a:path w="1258" h="445">
                  <a:moveTo>
                    <a:pt x="1258" y="63"/>
                  </a:moveTo>
                  <a:lnTo>
                    <a:pt x="589" y="44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3411000" y="3684240"/>
              <a:ext cx="850680" cy="660240"/>
            </a:xfrm>
            <a:custGeom>
              <a:avLst/>
              <a:gdLst/>
              <a:ahLst/>
              <a:rect l="l" t="t" r="r" b="b"/>
              <a:pathLst>
                <a:path w="997" h="784">
                  <a:moveTo>
                    <a:pt x="0" y="784"/>
                  </a:moveTo>
                  <a:lnTo>
                    <a:pt x="997" y="784"/>
                  </a:lnTo>
                  <a:lnTo>
                    <a:pt x="99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未知"/>
            <p:cNvSpPr/>
            <p:nvPr/>
          </p:nvSpPr>
          <p:spPr>
            <a:xfrm>
              <a:off x="5031000" y="3691440"/>
              <a:ext cx="969480" cy="652680"/>
            </a:xfrm>
            <a:custGeom>
              <a:avLst/>
              <a:gdLst/>
              <a:ahLst/>
              <a:rect l="l" t="t" r="r" b="b"/>
              <a:pathLst>
                <a:path w="1136" h="775">
                  <a:moveTo>
                    <a:pt x="1136" y="361"/>
                  </a:moveTo>
                  <a:lnTo>
                    <a:pt x="775" y="0"/>
                  </a:lnTo>
                  <a:lnTo>
                    <a:pt x="0" y="77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6158"/>
            <p:cNvSpPr/>
            <p:nvPr/>
          </p:nvSpPr>
          <p:spPr>
            <a:xfrm>
              <a:off x="1895400" y="2996280"/>
              <a:ext cx="74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6159"/>
            <p:cNvSpPr/>
            <p:nvPr/>
          </p:nvSpPr>
          <p:spPr>
            <a:xfrm>
              <a:off x="3756240" y="2986560"/>
              <a:ext cx="744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6160"/>
            <p:cNvSpPr/>
            <p:nvPr/>
          </p:nvSpPr>
          <p:spPr>
            <a:xfrm>
              <a:off x="5256360" y="3014280"/>
              <a:ext cx="744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(          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6158"/>
          <p:cNvSpPr/>
          <p:nvPr/>
        </p:nvSpPr>
        <p:spPr>
          <a:xfrm>
            <a:off x="1925640" y="437976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6158"/>
          <p:cNvSpPr/>
          <p:nvPr/>
        </p:nvSpPr>
        <p:spPr>
          <a:xfrm>
            <a:off x="3703680" y="445464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6158"/>
          <p:cNvSpPr/>
          <p:nvPr/>
        </p:nvSpPr>
        <p:spPr>
          <a:xfrm>
            <a:off x="5256360" y="445464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"/>
          <p:cNvSpPr/>
          <p:nvPr/>
        </p:nvSpPr>
        <p:spPr>
          <a:xfrm>
            <a:off x="5322960" y="28796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0"/>
          <p:cNvSpPr/>
          <p:nvPr/>
        </p:nvSpPr>
        <p:spPr>
          <a:xfrm>
            <a:off x="3768840" y="39020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11"/>
          <p:cNvSpPr/>
          <p:nvPr/>
        </p:nvSpPr>
        <p:spPr>
          <a:xfrm>
            <a:off x="5289480" y="390204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64152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数出下面各图形中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16523"/>
          <p:cNvGrpSpPr/>
          <p:nvPr/>
        </p:nvGrpSpPr>
        <p:grpSpPr>
          <a:xfrm>
            <a:off x="1911240" y="2008080"/>
            <a:ext cx="5329440" cy="1255680"/>
            <a:chOff x="1911240" y="2008080"/>
            <a:chExt cx="5329440" cy="1255680"/>
          </a:xfrm>
        </p:grpSpPr>
        <p:sp>
          <p:nvSpPr>
            <p:cNvPr id="1096" name="Picture 16524"/>
            <p:cNvSpPr/>
            <p:nvPr/>
          </p:nvSpPr>
          <p:spPr>
            <a:xfrm>
              <a:off x="1911240" y="2008080"/>
              <a:ext cx="532944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6525"/>
            <p:cNvSpPr/>
            <p:nvPr/>
          </p:nvSpPr>
          <p:spPr>
            <a:xfrm>
              <a:off x="3674880" y="2069280"/>
              <a:ext cx="1684080" cy="103932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1944720" y="2235240"/>
              <a:ext cx="1429560" cy="911880"/>
            </a:xfrm>
            <a:custGeom>
              <a:avLst/>
              <a:gdLst/>
              <a:ahLst/>
              <a:rect l="l" t="t" r="r" b="b"/>
              <a:pathLst>
                <a:path w="1702" h="948">
                  <a:moveTo>
                    <a:pt x="0" y="948"/>
                  </a:moveTo>
                  <a:lnTo>
                    <a:pt x="1702" y="948"/>
                  </a:lnTo>
                  <a:lnTo>
                    <a:pt x="0" y="0"/>
                  </a:lnTo>
                  <a:lnTo>
                    <a:pt x="0" y="94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5847120" y="2046240"/>
              <a:ext cx="1355400" cy="1176480"/>
            </a:xfrm>
            <a:custGeom>
              <a:avLst/>
              <a:gdLst/>
              <a:ahLst/>
              <a:rect l="l" t="t" r="r" b="b"/>
              <a:pathLst>
                <a:path w="1614" h="1223">
                  <a:moveTo>
                    <a:pt x="0" y="1223"/>
                  </a:moveTo>
                  <a:lnTo>
                    <a:pt x="1614" y="1223"/>
                  </a:lnTo>
                  <a:lnTo>
                    <a:pt x="912" y="0"/>
                  </a:lnTo>
                  <a:lnTo>
                    <a:pt x="0" y="0"/>
                  </a:lnTo>
                  <a:lnTo>
                    <a:pt x="0" y="12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文本框 99"/>
          <p:cNvSpPr/>
          <p:nvPr/>
        </p:nvSpPr>
        <p:spPr>
          <a:xfrm>
            <a:off x="1644480" y="3263760"/>
            <a:ext cx="60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 ）个直角　（　 ）个直角　　（　 ）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16529"/>
          <p:cNvGrpSpPr/>
          <p:nvPr/>
        </p:nvGrpSpPr>
        <p:grpSpPr>
          <a:xfrm>
            <a:off x="2660760" y="3892680"/>
            <a:ext cx="4787640" cy="1104840"/>
            <a:chOff x="2660760" y="3892680"/>
            <a:chExt cx="4787640" cy="1104840"/>
          </a:xfrm>
        </p:grpSpPr>
        <p:sp>
          <p:nvSpPr>
            <p:cNvPr id="1102" name="Picture 16530"/>
            <p:cNvSpPr/>
            <p:nvPr/>
          </p:nvSpPr>
          <p:spPr>
            <a:xfrm>
              <a:off x="2660760" y="3892680"/>
              <a:ext cx="47876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6531"/>
            <p:cNvSpPr/>
            <p:nvPr/>
          </p:nvSpPr>
          <p:spPr>
            <a:xfrm flipV="1">
              <a:off x="6618600" y="3922560"/>
              <a:ext cx="0" cy="10472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6618600" y="3922920"/>
              <a:ext cx="803880" cy="1047240"/>
            </a:xfrm>
            <a:custGeom>
              <a:avLst/>
              <a:gdLst/>
              <a:ahLst/>
              <a:rect l="l" t="t" r="r" b="b"/>
              <a:pathLst>
                <a:path w="1101" h="1380">
                  <a:moveTo>
                    <a:pt x="0" y="1380"/>
                  </a:moveTo>
                  <a:lnTo>
                    <a:pt x="1101" y="138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5196600" y="3995640"/>
              <a:ext cx="233640" cy="876960"/>
            </a:xfrm>
            <a:custGeom>
              <a:avLst/>
              <a:gdLst/>
              <a:ahLst/>
              <a:rect l="l" t="t" r="r" b="b"/>
              <a:pathLst>
                <a:path w="320" h="1155">
                  <a:moveTo>
                    <a:pt x="6" y="217"/>
                  </a:moveTo>
                  <a:lnTo>
                    <a:pt x="320" y="0"/>
                  </a:lnTo>
                  <a:lnTo>
                    <a:pt x="320" y="1155"/>
                  </a:lnTo>
                  <a:lnTo>
                    <a:pt x="0" y="115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16534"/>
            <p:cNvSpPr/>
            <p:nvPr/>
          </p:nvSpPr>
          <p:spPr>
            <a:xfrm flipV="1">
              <a:off x="5196600" y="4160880"/>
              <a:ext cx="3960" cy="711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4205160" y="4160880"/>
              <a:ext cx="995400" cy="711360"/>
            </a:xfrm>
            <a:custGeom>
              <a:avLst/>
              <a:gdLst/>
              <a:ahLst/>
              <a:rect l="l" t="t" r="r" b="b"/>
              <a:pathLst>
                <a:path w="1363" h="938">
                  <a:moveTo>
                    <a:pt x="1363" y="0"/>
                  </a:moveTo>
                  <a:lnTo>
                    <a:pt x="0" y="938"/>
                  </a:lnTo>
                  <a:lnTo>
                    <a:pt x="1357" y="93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6059880" y="3922920"/>
              <a:ext cx="558360" cy="1047240"/>
            </a:xfrm>
            <a:custGeom>
              <a:avLst/>
              <a:gdLst/>
              <a:ahLst/>
              <a:rect l="l" t="t" r="r" b="b"/>
              <a:pathLst>
                <a:path w="765" h="1380">
                  <a:moveTo>
                    <a:pt x="765" y="0"/>
                  </a:moveTo>
                  <a:lnTo>
                    <a:pt x="0" y="0"/>
                  </a:lnTo>
                  <a:lnTo>
                    <a:pt x="0" y="1380"/>
                  </a:lnTo>
                  <a:lnTo>
                    <a:pt x="765" y="138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63880" y="4016520"/>
            <a:ext cx="1311120" cy="836640"/>
          </a:xfrm>
          <a:prstGeom prst="rect">
            <a:avLst/>
          </a:prstGeom>
          <a:ln w="0">
            <a:noFill/>
          </a:ln>
        </p:spPr>
      </p:pic>
      <p:sp>
        <p:nvSpPr>
          <p:cNvPr id="1110" name="文本框 2"/>
          <p:cNvSpPr/>
          <p:nvPr/>
        </p:nvSpPr>
        <p:spPr>
          <a:xfrm>
            <a:off x="1733400" y="5086440"/>
            <a:ext cx="18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　 ）个直角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"/>
          <p:cNvSpPr/>
          <p:nvPr/>
        </p:nvSpPr>
        <p:spPr>
          <a:xfrm>
            <a:off x="4137120" y="5148360"/>
            <a:ext cx="35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　  ）个角　　（　  ）个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　  ）个直角　（　  ）个直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6"/>
          <p:cNvSpPr/>
          <p:nvPr/>
        </p:nvSpPr>
        <p:spPr>
          <a:xfrm>
            <a:off x="2063880" y="32036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7"/>
          <p:cNvSpPr/>
          <p:nvPr/>
        </p:nvSpPr>
        <p:spPr>
          <a:xfrm>
            <a:off x="3956040" y="3170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0"/>
          <p:cNvSpPr/>
          <p:nvPr/>
        </p:nvSpPr>
        <p:spPr>
          <a:xfrm>
            <a:off x="6060960" y="320364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11"/>
          <p:cNvSpPr/>
          <p:nvPr/>
        </p:nvSpPr>
        <p:spPr>
          <a:xfrm>
            <a:off x="2063880" y="499752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12"/>
          <p:cNvSpPr/>
          <p:nvPr/>
        </p:nvSpPr>
        <p:spPr>
          <a:xfrm>
            <a:off x="4462560" y="539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13"/>
          <p:cNvSpPr/>
          <p:nvPr/>
        </p:nvSpPr>
        <p:spPr>
          <a:xfrm>
            <a:off x="4457880" y="5025960"/>
            <a:ext cx="7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14"/>
          <p:cNvSpPr/>
          <p:nvPr/>
        </p:nvSpPr>
        <p:spPr>
          <a:xfrm>
            <a:off x="6156360" y="502596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8"/>
          <p:cNvSpPr/>
          <p:nvPr/>
        </p:nvSpPr>
        <p:spPr>
          <a:xfrm>
            <a:off x="6156360" y="539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457200" y="9298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三、我会填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课桌的面有（　　  ）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红领巾上有（　　  ）个角，国旗上有（　　  ）个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长方形有（　　   ）个角，每个角都是（　　  ）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课桌上的直角和三角板上的直角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三角板上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个角，其中特殊的一个角是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在下面的图形里加一条线段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把它分成一个正方形和一个三角形．加线后的图形中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个直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图片 4" descr=""/>
          <p:cNvPicPr/>
          <p:nvPr/>
        </p:nvPicPr>
        <p:blipFill>
          <a:blip r:embed="rId1"/>
          <a:stretch/>
        </p:blipFill>
        <p:spPr>
          <a:xfrm>
            <a:off x="3095640" y="5106960"/>
            <a:ext cx="1855800" cy="924120"/>
          </a:xfrm>
          <a:prstGeom prst="rect">
            <a:avLst/>
          </a:prstGeom>
          <a:ln w="0">
            <a:noFill/>
          </a:ln>
        </p:spPr>
      </p:pic>
      <p:sp>
        <p:nvSpPr>
          <p:cNvPr id="1122" name="文本框 13"/>
          <p:cNvSpPr/>
          <p:nvPr/>
        </p:nvSpPr>
        <p:spPr>
          <a:xfrm>
            <a:off x="3095640" y="14270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2"/>
          <p:cNvSpPr/>
          <p:nvPr/>
        </p:nvSpPr>
        <p:spPr>
          <a:xfrm>
            <a:off x="3044880" y="188748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3"/>
          <p:cNvSpPr/>
          <p:nvPr/>
        </p:nvSpPr>
        <p:spPr>
          <a:xfrm>
            <a:off x="6842160" y="18716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5"/>
          <p:cNvSpPr/>
          <p:nvPr/>
        </p:nvSpPr>
        <p:spPr>
          <a:xfrm>
            <a:off x="2774880" y="2340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6"/>
          <p:cNvSpPr/>
          <p:nvPr/>
        </p:nvSpPr>
        <p:spPr>
          <a:xfrm>
            <a:off x="6918480" y="234000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7"/>
          <p:cNvSpPr/>
          <p:nvPr/>
        </p:nvSpPr>
        <p:spPr>
          <a:xfrm>
            <a:off x="5599080" y="280044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0"/>
          <p:cNvSpPr/>
          <p:nvPr/>
        </p:nvSpPr>
        <p:spPr>
          <a:xfrm>
            <a:off x="2862360" y="32702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1"/>
          <p:cNvSpPr/>
          <p:nvPr/>
        </p:nvSpPr>
        <p:spPr>
          <a:xfrm>
            <a:off x="7736040" y="322272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2"/>
          <p:cNvSpPr/>
          <p:nvPr/>
        </p:nvSpPr>
        <p:spPr>
          <a:xfrm>
            <a:off x="5178600" y="448632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直接连接符 14"/>
          <p:cNvSpPr/>
          <p:nvPr/>
        </p:nvSpPr>
        <p:spPr>
          <a:xfrm flipV="1">
            <a:off x="3995640" y="522108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32"/>
          <p:cNvSpPr/>
          <p:nvPr/>
        </p:nvSpPr>
        <p:spPr>
          <a:xfrm>
            <a:off x="420840" y="933480"/>
            <a:ext cx="844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现实生活中，很多地方都有直角，椅子的靠背和桌面、长方形和正方形的四个角都是直角。对于直角，一般都要标出直角符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    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直角的方法：先画出一个点，从这个点出发画一条直线；然后用三角尺上直线的顶点对齐这个点，一条直角边与这条线对齐，从这个点出发沿三角尺上另一条直角边画一条线；最后画出直角符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组合 3"/>
          <p:cNvGrpSpPr/>
          <p:nvPr/>
        </p:nvGrpSpPr>
        <p:grpSpPr>
          <a:xfrm>
            <a:off x="4964040" y="1939680"/>
            <a:ext cx="236520" cy="237960"/>
            <a:chOff x="4964040" y="1939680"/>
            <a:chExt cx="236520" cy="237960"/>
          </a:xfrm>
        </p:grpSpPr>
        <p:sp>
          <p:nvSpPr>
            <p:cNvPr id="1146" name="直接连接符 1"/>
            <p:cNvSpPr/>
            <p:nvPr/>
          </p:nvSpPr>
          <p:spPr>
            <a:xfrm>
              <a:off x="4964040" y="1941120"/>
              <a:ext cx="236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直接连接符 2"/>
            <p:cNvSpPr/>
            <p:nvPr/>
          </p:nvSpPr>
          <p:spPr>
            <a:xfrm flipV="1">
              <a:off x="5189400" y="1939680"/>
              <a:ext cx="0" cy="237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2:55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